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294813"/>
  <p:custShowLst>
    <p:custShow name="Speech" id="0">
      <p:sldLst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14560" y="693360"/>
            <a:ext cx="46288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3"/>
          </p:nvPr>
        </p:nvSpPr>
        <p:spPr>
          <a:xfrm>
            <a:off x="-36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4"/>
          </p:nvPr>
        </p:nvSpPr>
        <p:spPr>
          <a:xfrm>
            <a:off x="388584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7BE5-29D9-418D-8CAB-7A43F9E1F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43F0-9E94-440C-B2DC-9DEF0B03B5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63E0-9C4D-46BD-A965-8E84991F11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2912-20C4-44D8-975B-90D6A9D74B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10BD-F1F2-41EF-B2E4-5B7C3F7685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7B35-BB6C-4893-B6B5-C9A8FED0D1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78E6-8732-465B-B5EC-4E8233DE79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E820-025A-4A85-A50B-D796A009BC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2FD8-AD2D-4A18-8349-CDD210E9ED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A8CD-C30B-4937-9100-FCF06AFA7E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A7F4-4907-4E82-BE59-810D669FF1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C4D6-DF45-44E0-8E9E-31BA03A822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CC94-20CD-4033-AB70-99E7CD9FFC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26E3-5D98-41F4-81C7-1E9B946440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FFAE-00DC-456B-812E-47D0658CDC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62C1-251D-4CCD-8F61-DB978491F5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9A51-EC59-48EF-9DC5-0F202E1AE7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1781-E2B4-4D82-97CB-5D61440716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8827-C286-43FB-BCB5-7C8FDD10D0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5876-7388-4A0E-950C-FD700223F4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C82D-2D23-4C14-9C91-C34A8602E2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0E21-C97F-4198-9616-F615DD3F4C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79624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4D9C-9633-44C8-AAFC-63827AEF98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28880" cy="34736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1B4-6DC2-49EC-B520-385842D3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035-BD51-4F63-871E-89EB247D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D269-12A7-4D7F-9C6E-252D9DE6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F23-F068-4B97-B7A2-54EB571D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ED7D-DA73-4B79-B3AF-E456BF84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C3B3-7DD4-4EBF-82D5-285EFDC1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84EB-C571-405A-9179-24E8B754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44F2-7BDB-4C52-A692-F09EC2FB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3E22-76A1-43CB-A482-499CFC01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C9DE-A2C6-45D3-84FC-92E308E5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DF7E-288A-48A1-874D-B19357C2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DE2-7F37-452A-A8CB-1F1CA673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AA00-5231-483A-9DA2-9B787B73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07A0-2718-4DC0-B65E-B8E23BF0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B131-400D-4DB7-B4C0-E2E2C073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9001-7122-4C63-9BFD-55AF98E6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0D65-A3DB-4DB7-8149-E69E9DDF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C36C-B315-4B16-8855-DEFBBFDA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E635C-39E1-4C93-84FD-69991C60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8841-807A-4F4F-A37F-FC3208B0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8F531-2A1C-4F40-91A2-E9B4ECF4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AF88-22F9-4AED-9589-FB97045B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938-A164-4E58-8ED7-684139C4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8491-E6C2-47D3-829A-E1E36B8C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3A1B2-4838-4CD3-998B-EE047EC0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5DA5D-1AA7-472C-8FF2-56526EDC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3D85-3E41-4B53-9981-7280C52D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CCC3-F2F8-4C1C-9A14-067F5AB1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9D96-1A6F-407A-AF41-F07071DA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CAD34-773A-4350-BC31-647A9A66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3624B-4DB9-49F9-B144-9D88E281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C359-0707-4C4B-80F6-8CAF22F4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5F2A-5039-43E8-9912-3B64933C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603-33F1-4855-865A-51D05CFF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70816-A6D1-431F-A30F-8C4AA278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6E7A4-6D37-4828-89E6-0B43F42E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25742-F2E2-4425-9680-469D602B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077C0-02D9-4890-B77E-D9B0DB9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5081-BFA8-4EFE-A97A-5DEDCAA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5B6A9-C7CD-4A8C-9218-87731822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6113E-7704-4111-954C-ADD12393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B9DB-87DD-4E86-9A6B-8BD26AD9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E563-34F8-40F5-83C7-B9BE8017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B1DAC-59B7-4763-96E9-E7423B4E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40AD-2BA7-472F-82AD-193EB4EF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E32E4-A644-474A-AA12-6C70C3B8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112F9-B339-4DFE-8823-3B6C993E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3159F-4FE3-4AEC-B69E-A5EB76A6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99772-10C3-4FD9-B4F8-65E0C211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CCBC1-06AA-4568-BA55-70DF55FC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E5904-9B00-43EA-8F58-0C93E69B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25C9D-9CB6-4AFA-B983-AF59D9B7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E7A72-B4C1-4576-9EAD-F5A3FA37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953E8-9F2A-40F6-A109-4CA4675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30168-603B-43DC-968E-851689BC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11B-73FC-45A3-879D-92EDBC90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C584E-1F6E-4C7D-941A-967B4FB9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3E765-AF0C-4DA3-A8DF-F9CACAB0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4ADAE-24F0-4BD1-9EF4-268CCEF4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658A3-1C17-47D1-B8D9-534A9900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CD617-5CC2-4D13-AAB6-DB4D08DC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90717-9A34-45F0-BC7B-37308AEE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18887-A0F2-48FA-B772-E5687167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3DDF7-0B14-4747-8790-4157BF0A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27A7B-9621-4A44-B98A-DA06DFD6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67D9E-0599-415A-A81D-DB523507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5C4-90FE-4AFA-9AEB-34ED88B8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12EF2-A491-4B53-8875-C72E4BE7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D9D29-F424-472C-830A-A0DBBDD3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D131A-97A7-429B-84DF-D8811F15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2C751-5142-4FEE-8A3C-8CC588ED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82D45-125D-4053-BA86-3E70863F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6A618-EE61-4D61-B594-792A5CAC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F4C0-C407-471D-B1C6-35F085A7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BB8B3-ACFC-45B5-AE71-E9CB95EE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CE91E-3E6D-41FF-9A8A-3821BC63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125F5-0721-4592-8272-AFDD1A70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061-1A58-41B4-9A6E-73FE3715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6FA92-FB22-486D-B3D3-D730E56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54302-16FA-4AA0-9C98-EF78443F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5DC3C-EA5C-40EA-813C-8EADF630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D94AC-29C2-4BE5-B041-3852E4F5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41972-45F0-440A-9151-7A35F9FB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B47-903E-4EC3-BB4F-6CBB0E4C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54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C796-51FC-41A7-B9E3-D80377020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e5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C8F5-2659-45EE-BD3D-BD03C3C2F1AD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5E2D-D0FB-473D-A746-85F96276E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A1DC-8435-4FD2-AE49-F28B82DFC001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F5B3-1F7F-4AB8-B1D7-726246F4D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50000">
              <a:srgbClr val="2b5481"/>
            </a:gs>
            <a:gs pos="100000">
              <a:srgbClr val="0033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6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7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7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7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66"/>
                </a:gs>
                <a:gs pos="100000">
                  <a:srgbClr val="2e588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7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7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82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b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5fff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332F-0D94-43C2-B600-187783A50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E0BC-DF8F-4BE4-9917-9250F97A96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politicalcartoon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politicalcartoon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oliticalcartoons.com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Amending the Constitution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Why Change?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Proposal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Proposal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533520" y="1447920"/>
            <a:ext cx="3429000" cy="38098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2/3 vote in both the House and the Senate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most common method of proposing an amendment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Proposal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5029200" y="1371600"/>
            <a:ext cx="3733920" cy="5181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2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national constitutional convention called by Congress at the request of 2/3 of the state legislatur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This method has never been used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533520" y="1447920"/>
            <a:ext cx="3429000" cy="38098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2/3 vote in both the House and the Senate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most common method of proposing an amendment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4114800" y="297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Ratification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Ratification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3520" y="1447920"/>
            <a:ext cx="3429000" cy="3809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legislatures in ¾ of the stat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in all but one case, this is how amendments have been ratified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4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ethods of Ratification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5029200" y="1371600"/>
            <a:ext cx="3733920" cy="5181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2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fied through conventions in ¾ of the states. 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Only been used once to ratify the 2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33520" y="1447920"/>
            <a:ext cx="3429000" cy="3809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legislatures in ¾ of the states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in all but one case, this is how amendments have been ratified]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4191120" y="274320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114800" y="29718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Amendment Process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457200" y="1143000"/>
            <a:ext cx="3733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ethods of Proposal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2" name="Text Box 35"/>
          <p:cNvSpPr/>
          <p:nvPr/>
        </p:nvSpPr>
        <p:spPr>
          <a:xfrm>
            <a:off x="1066680" y="1600200"/>
            <a:ext cx="2514600" cy="18288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2/3 vote in both the House and the Senate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3" name="Text Box 36"/>
          <p:cNvSpPr/>
          <p:nvPr/>
        </p:nvSpPr>
        <p:spPr>
          <a:xfrm>
            <a:off x="1828800" y="35812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4" name="Text Box 37"/>
          <p:cNvSpPr/>
          <p:nvPr/>
        </p:nvSpPr>
        <p:spPr>
          <a:xfrm>
            <a:off x="609480" y="4038480"/>
            <a:ext cx="3353040" cy="19814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2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national constitutional convention called by Congress at the request of 2/3 of the state legislatures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4724280" y="1143000"/>
            <a:ext cx="4038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Methods of Ratification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6" name="Text Box 42"/>
          <p:cNvSpPr/>
          <p:nvPr/>
        </p:nvSpPr>
        <p:spPr>
          <a:xfrm>
            <a:off x="5410080" y="1600200"/>
            <a:ext cx="2819520" cy="15238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1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legislature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of the states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7" name="Text Box 43"/>
          <p:cNvSpPr/>
          <p:nvPr/>
        </p:nvSpPr>
        <p:spPr>
          <a:xfrm>
            <a:off x="6248520" y="33526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8" name="Text Box 45"/>
          <p:cNvSpPr/>
          <p:nvPr/>
        </p:nvSpPr>
        <p:spPr>
          <a:xfrm>
            <a:off x="5410080" y="3886200"/>
            <a:ext cx="2743200" cy="1981080"/>
          </a:xfrm>
          <a:prstGeom prst="rect">
            <a:avLst/>
          </a:prstGeom>
          <a:solidFill>
            <a:srgbClr val="99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Method 2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tified through convention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of the states. 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19" name="AutoShape 46"/>
          <p:cNvSpPr/>
          <p:nvPr/>
        </p:nvSpPr>
        <p:spPr>
          <a:xfrm>
            <a:off x="3657600" y="1981080"/>
            <a:ext cx="1714680" cy="495360"/>
          </a:xfrm>
          <a:custGeom>
            <a:avLst/>
            <a:gdLst>
              <a:gd name="textAreaLeft" fmla="*/ 267840 w 1714680"/>
              <a:gd name="textAreaRight" fmla="*/ 1500480 w 171468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0" name="AutoShape 48"/>
          <p:cNvSpPr/>
          <p:nvPr/>
        </p:nvSpPr>
        <p:spPr>
          <a:xfrm rot="18884400">
            <a:off x="3830040" y="3373560"/>
            <a:ext cx="1716120" cy="457200"/>
          </a:xfrm>
          <a:custGeom>
            <a:avLst/>
            <a:gdLst>
              <a:gd name="textAreaLeft" fmla="*/ 268200 w 1716120"/>
              <a:gd name="textAreaRight" fmla="*/ 1501920 w 1716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1" name="AutoShape 47"/>
          <p:cNvSpPr/>
          <p:nvPr/>
        </p:nvSpPr>
        <p:spPr>
          <a:xfrm rot="2294400">
            <a:off x="3528720" y="3431880"/>
            <a:ext cx="1973160" cy="453960"/>
          </a:xfrm>
          <a:custGeom>
            <a:avLst/>
            <a:gdLst>
              <a:gd name="textAreaLeft" fmla="*/ 308160 w 1973160"/>
              <a:gd name="textAreaRight" fmla="*/ 1726560 w 1973160"/>
              <a:gd name="textAreaTop" fmla="*/ 113400 h 453960"/>
              <a:gd name="textAreaBottom" fmla="*/ 340560 h 4539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22" name="AutoShape 49"/>
          <p:cNvSpPr/>
          <p:nvPr/>
        </p:nvSpPr>
        <p:spPr>
          <a:xfrm>
            <a:off x="3962520" y="4648320"/>
            <a:ext cx="1447560" cy="53316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ggested Amendment Top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14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g bu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non-natural born citizens to become P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ial language(s) of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of marri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yer in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42920" y="1828440"/>
            <a:ext cx="3814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d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oral Col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s limits on U.S. Senators &amp; Represent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medical care for all citiz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th pen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9448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he Equal Rights Amendment</a:t>
            </a:r>
            <a:br>
              <a:rPr sz="4800"/>
            </a:br>
            <a:r>
              <a:rPr b="1" lang="en-US" sz="3600" spc="-1" strike="noStrike">
                <a:solidFill>
                  <a:srgbClr val="ffff99"/>
                </a:solidFill>
                <a:latin typeface="Georgia"/>
              </a:rPr>
              <a:t>Proposed 1972</a:t>
            </a:r>
            <a:endParaRPr b="1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162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Equality of rights  under the law shall not be denied or abridged by the United States or  by any state on account of sex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789, the first Congress of the United States established the existence of specific individual rights by creating a Bill of Rights to be amended to the Constitution.  In each session of Congress, a number of constitutional amendments have been proposed, but few are passed to be ratified by the states (only 27 amendments total)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8"/>
          <p:cNvSpPr/>
          <p:nvPr/>
        </p:nvSpPr>
        <p:spPr>
          <a:xfrm>
            <a:off x="228600" y="1676520"/>
            <a:ext cx="2666880" cy="3429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0d00"/>
                </a:solidFill>
                <a:latin typeface="Verdana"/>
              </a:rPr>
              <a:t>School of Rock</a:t>
            </a:r>
            <a:r>
              <a:rPr b="1" lang="en-US" sz="4000" spc="-1" strike="noStrike">
                <a:solidFill>
                  <a:srgbClr val="ffffff"/>
                </a:solidFill>
                <a:latin typeface="Rockwell Extra Bold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367" name="Picture 5" descr="dylan1"/>
          <p:cNvPicPr/>
          <p:nvPr/>
        </p:nvPicPr>
        <p:blipFill>
          <a:blip r:embed="rId1"/>
          <a:stretch/>
        </p:blipFill>
        <p:spPr>
          <a:xfrm>
            <a:off x="3048120" y="22096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dylan2"/>
          <p:cNvPicPr/>
          <p:nvPr/>
        </p:nvPicPr>
        <p:blipFill>
          <a:blip r:embed="rId2"/>
          <a:stretch/>
        </p:blipFill>
        <p:spPr>
          <a:xfrm>
            <a:off x="304920" y="1752480"/>
            <a:ext cx="2482560" cy="3353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dylan4"/>
          <p:cNvPicPr/>
          <p:nvPr/>
        </p:nvPicPr>
        <p:blipFill>
          <a:blip r:embed="rId3"/>
          <a:stretch/>
        </p:blipFill>
        <p:spPr>
          <a:xfrm>
            <a:off x="6477120" y="1981080"/>
            <a:ext cx="2124000" cy="32004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9"/>
          <p:cNvSpPr/>
          <p:nvPr/>
        </p:nvSpPr>
        <p:spPr>
          <a:xfrm>
            <a:off x="6400800" y="1905120"/>
            <a:ext cx="2286000" cy="3352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Arial"/>
              </a:rPr>
              <a:t>Why not?</a:t>
            </a:r>
            <a:endParaRPr b="1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72, Congress passed the Equal Rights Amendment, but by 1982, it fell three states short of ratification.  ERA supporters have re-introduced the amendment in every term since 1982 without success.  Still the simple words embodied in the amendment are both powerful and controvers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e5ffff"/>
                </a:solidFill>
                <a:latin typeface="Georgia"/>
              </a:rPr>
              <a:t>The Equal Rights Amendment (ERA):</a:t>
            </a:r>
            <a:br>
              <a:rPr sz="3200"/>
            </a:br>
            <a:r>
              <a:rPr b="1" lang="en-US" sz="3600" spc="-1" strike="noStrike">
                <a:solidFill>
                  <a:srgbClr val="e5ffff"/>
                </a:solidFill>
                <a:latin typeface="Georgia"/>
              </a:rPr>
              <a:t>Questions for Discussion</a:t>
            </a:r>
            <a:br>
              <a:rPr sz="4000"/>
            </a:br>
            <a:endParaRPr b="1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90760" y="152352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8480" indent="-438480">
              <a:lnSpc>
                <a:spcPct val="90000"/>
              </a:lnSpc>
              <a:spcBef>
                <a:spcPts val="799"/>
              </a:spcBef>
              <a:buClr>
                <a:srgbClr val="e5ffff"/>
              </a:buClr>
              <a:buSzPct val="6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rights are protected by the ER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480" indent="-438480">
              <a:lnSpc>
                <a:spcPct val="90000"/>
              </a:lnSpc>
              <a:spcBef>
                <a:spcPts val="799"/>
              </a:spcBef>
              <a:buClr>
                <a:srgbClr val="e5ffff"/>
              </a:buClr>
              <a:buSzPct val="6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y do you think the ERA has evoked such heated deb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480" indent="-438480">
              <a:lnSpc>
                <a:spcPct val="90000"/>
              </a:lnSpc>
              <a:spcBef>
                <a:spcPts val="799"/>
              </a:spcBef>
              <a:buClr>
                <a:srgbClr val="e5ffff"/>
              </a:buClr>
              <a:buSzPct val="6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rainstorm pros and cons of each s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480" indent="-438480">
              <a:lnSpc>
                <a:spcPct val="90000"/>
              </a:lnSpc>
              <a:spcBef>
                <a:spcPts val="799"/>
              </a:spcBef>
              <a:buClr>
                <a:srgbClr val="e5ffff"/>
              </a:buClr>
              <a:buSzPct val="6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 you think the ERA should be ratifi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3" descr="-ERA-dr"/>
          <p:cNvPicPr/>
          <p:nvPr/>
        </p:nvPicPr>
        <p:blipFill>
          <a:blip r:embed="rId1"/>
          <a:stretch/>
        </p:blipFill>
        <p:spPr>
          <a:xfrm>
            <a:off x="1066680" y="1447920"/>
            <a:ext cx="2514600" cy="2560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6" descr="+ERA-dr"/>
          <p:cNvPicPr/>
          <p:nvPr/>
        </p:nvPicPr>
        <p:blipFill>
          <a:blip r:embed="rId2"/>
          <a:stretch/>
        </p:blipFill>
        <p:spPr>
          <a:xfrm>
            <a:off x="609480" y="4191120"/>
            <a:ext cx="36147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0d00"/>
                </a:solidFill>
                <a:latin typeface="Comic Sans MS"/>
              </a:rPr>
              <a:t>Political Cartoon #1</a:t>
            </a:r>
            <a:br>
              <a:rPr sz="3600"/>
            </a:br>
            <a:r>
              <a:rPr b="1" lang="en-US" sz="3200" spc="-1" strike="noStrike">
                <a:solidFill>
                  <a:srgbClr val="f0e500"/>
                </a:solidFill>
                <a:latin typeface="Comic Sans MS"/>
              </a:rPr>
              <a:t>Title:  Flag Burning Amendment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436" name="Picture 6" descr="scrap-dr"/>
          <p:cNvPicPr/>
          <p:nvPr/>
        </p:nvPicPr>
        <p:blipFill>
          <a:blip r:embed="rId1"/>
          <a:stretch/>
        </p:blipFill>
        <p:spPr>
          <a:xfrm>
            <a:off x="1447920" y="1523880"/>
            <a:ext cx="5943600" cy="42037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7"/>
          <p:cNvSpPr/>
          <p:nvPr/>
        </p:nvSpPr>
        <p:spPr>
          <a:xfrm>
            <a:off x="308160" y="5943600"/>
            <a:ext cx="759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Gary Markstein, Wisconsi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The Milwaukee Journal-Sentine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Osaka"/>
              </a:rPr>
              <a:t> , July 18, 2005 ,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ccff"/>
                </a:solidFill>
                <a:uFillTx/>
                <a:latin typeface="Times New Roman"/>
                <a:ea typeface="Osaka"/>
                <a:hlinkClick r:id="rId2"/>
              </a:rPr>
              <a:t>http://www.politicalcartoons.com</a:t>
            </a:r>
            <a:endParaRPr b="0" lang="en-US" sz="1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0d00"/>
                </a:solidFill>
                <a:latin typeface="Comic Sans MS"/>
              </a:rPr>
              <a:t>Political Cartoon #2</a:t>
            </a:r>
            <a:br>
              <a:rPr sz="3600"/>
            </a:br>
            <a:r>
              <a:rPr b="1" lang="en-US" sz="3200" spc="-1" strike="noStrike">
                <a:solidFill>
                  <a:srgbClr val="f0e500"/>
                </a:solidFill>
                <a:latin typeface="Comic Sans MS"/>
              </a:rPr>
              <a:t>Title:  Flag Burning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1600200" y="1676520"/>
            <a:ext cx="5715000" cy="4228920"/>
            <a:chOff x="1600200" y="1676520"/>
            <a:chExt cx="5715000" cy="4228920"/>
          </a:xfrm>
        </p:grpSpPr>
        <p:sp>
          <p:nvSpPr>
            <p:cNvPr id="440" name="Rectangle 5"/>
            <p:cNvSpPr/>
            <p:nvPr/>
          </p:nvSpPr>
          <p:spPr>
            <a:xfrm>
              <a:off x="1600200" y="1676520"/>
              <a:ext cx="5715000" cy="422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pic>
          <p:nvPicPr>
            <p:cNvPr id="441" name="Picture 6" descr="scrap-dr"/>
            <p:cNvPicPr/>
            <p:nvPr/>
          </p:nvPicPr>
          <p:blipFill>
            <a:blip r:embed="rId1"/>
            <a:stretch/>
          </p:blipFill>
          <p:spPr>
            <a:xfrm>
              <a:off x="1707840" y="1782000"/>
              <a:ext cx="5499360" cy="40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2" name="Text Box 8"/>
          <p:cNvSpPr/>
          <p:nvPr/>
        </p:nvSpPr>
        <p:spPr>
          <a:xfrm>
            <a:off x="1355760" y="601992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3" name="Text Box 9"/>
          <p:cNvSpPr/>
          <p:nvPr/>
        </p:nvSpPr>
        <p:spPr>
          <a:xfrm>
            <a:off x="1434240" y="5943600"/>
            <a:ext cx="622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eve Breen,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he San Diego Union-Tribu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July 25, 2005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Times New Roman"/>
                <a:hlinkClick r:id="rId2"/>
              </a:rPr>
              <a:t>http://www.politicalcartoons.com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0d00"/>
                </a:solidFill>
                <a:latin typeface="Comic Sans MS"/>
              </a:rPr>
              <a:t>Political Cartoon #3</a:t>
            </a:r>
            <a:br>
              <a:rPr sz="3600"/>
            </a:br>
            <a:r>
              <a:rPr b="1" lang="en-US" sz="3200" spc="-1" strike="noStrike">
                <a:solidFill>
                  <a:srgbClr val="f0e500"/>
                </a:solidFill>
                <a:latin typeface="Comic Sans MS"/>
              </a:rPr>
              <a:t>Title:  Gay Marriage Amendment</a:t>
            </a: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355760" y="601992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1363680" y="5791320"/>
            <a:ext cx="55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Osaka"/>
              </a:rPr>
              <a:t>Mike La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Osaka"/>
              </a:rPr>
              <a:t>, Cagle Cartoons. Feb. 26, 2004 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Times New Roman"/>
                <a:ea typeface="Osaka"/>
                <a:hlinkClick r:id="rId1"/>
              </a:rPr>
              <a:t>http://www.politicalcartoons.com</a:t>
            </a: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447" name="Picture 8" descr="scrap-dr"/>
          <p:cNvPicPr/>
          <p:nvPr/>
        </p:nvPicPr>
        <p:blipFill>
          <a:blip r:embed="rId2"/>
          <a:stretch/>
        </p:blipFill>
        <p:spPr>
          <a:xfrm>
            <a:off x="2057400" y="1523880"/>
            <a:ext cx="48769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66"/>
                </a:solidFill>
                <a:latin typeface="Georgia"/>
              </a:rPr>
              <a:t>The Times They Are A-Changin’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Georgia"/>
              </a:rPr>
              <a:t>by Bob Dylan (1964)</a:t>
            </a:r>
            <a:r>
              <a:rPr b="0" i="1" lang="en-US" sz="3600" spc="-1" strike="noStrike">
                <a:solidFill>
                  <a:srgbClr val="ffff66"/>
                </a:solidFill>
                <a:latin typeface="Georgi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39625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Come gather ‘round people 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Wherever you roam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And admit that the waters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Around you have grown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And accept it that soon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You’ll be drenched to the bon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381024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If your time to you is worth savin’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Then you better start swimmin’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Or you’ll sink like a stone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Georgia"/>
              </a:rPr>
              <a:t>For the times they are a-changin’</a:t>
            </a: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2819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Verse 2</a:t>
            </a:r>
            <a:endParaRPr b="1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8769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Come writers &amp; critics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ho prophesize with your pe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keep your eyes wide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 chance won’t come agai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don’t speak too soo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wheel’s still in spi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57440" y="1143000"/>
            <a:ext cx="34290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there’s no tellin’ who that it’s nam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loser now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ill be later to wi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times they are a-chan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518148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Come senators, congressme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Please heed the cal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Don’t stand in the doorway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Don’t block up the hall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he that gets hur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ill be he who has stalle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re’s a battle outside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3760" y="1219320"/>
            <a:ext cx="38098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it is ra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It’ll soon shake your windows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rattle your walls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times they are a-chan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title"/>
          </p:nvPr>
        </p:nvSpPr>
        <p:spPr>
          <a:xfrm>
            <a:off x="533160" y="304560"/>
            <a:ext cx="2514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Verse 3</a:t>
            </a:r>
            <a:endParaRPr b="1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541008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Come mothers &amp; fathers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roughout the lan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don’t criticize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hat you can’t understan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Your sons and your daughters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re beyond your     comman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3760" y="990720"/>
            <a:ext cx="38098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Your old road is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Rapidly a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Please get out of  the new one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If you can’t lend a hand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times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y are a-chan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title"/>
          </p:nvPr>
        </p:nvSpPr>
        <p:spPr>
          <a:xfrm>
            <a:off x="533160" y="304560"/>
            <a:ext cx="2514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Verse 4</a:t>
            </a:r>
            <a:endParaRPr b="1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54100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 line it is drawn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 curse it is cas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 slow one now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ill later be fas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s the present now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ill later be pas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 order is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Rapidly fad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495680" y="914400"/>
            <a:ext cx="381024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And the first one now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Will later be last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For the times 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eorgia"/>
              </a:rPr>
              <a:t>They are a-changin’</a:t>
            </a:r>
            <a:endParaRPr b="0" lang="en-US" sz="3200" spc="-1" strike="noStrike">
              <a:solidFill>
                <a:srgbClr val="ffff66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title"/>
          </p:nvPr>
        </p:nvSpPr>
        <p:spPr>
          <a:xfrm>
            <a:off x="533160" y="304560"/>
            <a:ext cx="251460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Verdana"/>
              </a:rPr>
              <a:t>Verse 5</a:t>
            </a:r>
            <a:endParaRPr b="1" lang="en-US" sz="2800" spc="-1" strike="noStrike">
              <a:solidFill>
                <a:srgbClr val="ffff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s for Discussion</a:t>
            </a:r>
            <a:endParaRPr b="0" lang="en-US" sz="4000" spc="-1" strike="noStrike">
              <a:solidFill>
                <a:srgbClr val="e5ffff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t">
            <a:normAutofit/>
          </a:bodyPr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do you think the song is about, i.e. “what’s going on?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each verse, Dylan is challenging a certain group to change.  Analyze each verse of the song and identify who or what needs to chang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do you think is the overall message of the song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buClr>
                <a:srgbClr val="ffff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forces might make it necessary to change the Constitution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Verdana"/>
              </a:rPr>
              <a:t>The Constitution and the Amendment Process</a:t>
            </a:r>
            <a:endParaRPr b="0" lang="en-US" sz="36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4191120" y="2590920"/>
            <a:ext cx="54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9:50:35Z</dcterms:created>
  <dc:creator>inst</dc:creator>
  <dc:description/>
  <dc:language>en-US</dc:language>
  <cp:lastModifiedBy>hberndt</cp:lastModifiedBy>
  <dcterms:modified xsi:type="dcterms:W3CDTF">2010-02-03T13:18:16Z</dcterms:modified>
  <cp:revision>114</cp:revision>
  <dc:subject/>
  <dc:title>The Bill of Rights</dc:title>
</cp:coreProperties>
</file>